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84E81-8887-4028-A7EF-58466DF3D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0DE42-3B04-4AEF-86F1-158480A8B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C95B1-7002-4CE2-8480-004074429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2113B-FF9D-44EE-BDC4-1AA138A59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0C9D4-3382-449F-8304-DB191030A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A1AA1-B32D-4308-95F7-292DB9A82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ACB61-616C-44EA-BB41-8F7CB36D6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46369-4E75-4941-9401-04FA3F705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9944A-0F84-4887-9602-A7AD81731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15559-8C2D-4856-8C9F-7C531E6BA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21662-BCDE-403F-8592-E00E23387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81FAD-F681-45B1-8F2C-D8CD826B4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4D478-0BDF-453E-A845-8E27E68B4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8F0A2-F0F5-4B0F-99AD-2F01BD95A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B0E5F-F16A-4A64-B899-D75E04A8F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51C77-708C-47E2-985C-662B13F5B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35746-2B23-417C-98E0-86A72F52C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F848A-9B9D-4E05-A768-8D74A9E14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7CD91-5CA2-4AAA-A660-336F3C7DA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2D863-2C25-45D7-A4B0-0F822309A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4B49A-8AAF-42AE-8AF5-E668F45B1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11703-9456-4D65-9902-287AE9DA1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32A5C-CC62-43C9-81CD-2A9ADD30B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5F7C7-07FA-470A-B446-EF883AF0F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A41A7-BA47-46E6-8F12-7E8B3EFB89E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E0BD5-8AFA-47D3-A7C2-346F9D83A28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Data Communications Interfac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itional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2330"/>
          <a:stretch/>
        </p:blipFill>
        <p:spPr>
          <a:xfrm>
            <a:off x="2209680" y="1371600"/>
            <a:ext cx="4781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fac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processing devices (or data terminal equipment, DTE) do not (usually) include data transmission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an interface called data circuit terminating equipment (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odem, N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transmits bit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communicates data and control info with D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over interchange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ear interface standard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 of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plug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age, timing,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, control, timing, groun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ev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.24/EIA-232-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v.2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specifies functional and 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s other standards for electrical and mechan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A-232-F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S-23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chanical ISO 2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al v.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dur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990720" y="1373040"/>
            <a:ext cx="701028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interpreted as data or control, depending on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-3v is binary 1, more than +3v is binary 0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ate &lt; 20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&lt;1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control, more than-3v is off, +3v is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See table in Stallings chapter 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nd Remote Loop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762120" y="1376280"/>
            <a:ext cx="7391160" cy="52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cedur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synchronous private line mod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urned on and ready, modem (DCE) asserts DCE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TE ready to send data, it asserts Request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inhibits receive mode in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m responds when ready by asserting Clear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send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ata arrives, local modem asserts Receive Line Signal Detector and deliver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67733"/>
          <a:stretch/>
        </p:blipFill>
        <p:spPr>
          <a:xfrm>
            <a:off x="457200" y="1536840"/>
            <a:ext cx="8153280" cy="34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and Synchronou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problems require a mechanism to synchronize the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olu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31162" r="0" b="36707"/>
          <a:stretch/>
        </p:blipFill>
        <p:spPr>
          <a:xfrm>
            <a:off x="457200" y="1515960"/>
            <a:ext cx="8153280" cy="34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rcRect l="0" t="62194" r="0" b="5681"/>
          <a:stretch/>
        </p:blipFill>
        <p:spPr>
          <a:xfrm>
            <a:off x="380880" y="1523880"/>
            <a:ext cx="8229600" cy="35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ull Mod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6158"/>
          <a:stretch/>
        </p:blipFill>
        <p:spPr>
          <a:xfrm>
            <a:off x="1612800" y="1371600"/>
            <a:ext cx="50929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ISDN Physical Interface Diagram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0885"/>
          <a:stretch/>
        </p:blipFill>
        <p:spPr>
          <a:xfrm>
            <a:off x="2143080" y="1400040"/>
            <a:ext cx="485784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Physical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etween terminal equipment (c.f. DTE) and network terminating equipment (c.f. 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887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bles terminate in matching connectors with 8 conta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/receive carry both data and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d on two lines, e.g.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as currents down one conductor and up the 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ia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depends on direction of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lerates more noise and generates 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Unbalanced, e.g. RS-232 uses single signal line and groun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oding depends o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rate 192kbps uses pseudoternar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ate uses alternative mark inversion (AMI) and B8ZS or 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egroun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from ITU-T on v.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o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on character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 to 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only needs maintaining within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ync with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9630"/>
          <a:stretch/>
        </p:blipFill>
        <p:spPr>
          <a:xfrm>
            <a:off x="1752480" y="1414440"/>
            <a:ext cx="594360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- Behavio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 steady stream, interval between characters is uniform (length of stop ele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idle state, receiver looks for transition 1 to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samples next seven intervals (char length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looks for next 1 to 0 for next ch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 of 2 or 3 bits per char (~20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for data with large gaps (keyboar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it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of data transmitted without start or stop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must be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separate clock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over short distan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ject to impair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mbed clock signal i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r frequency (analo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lock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indicate start and end of blo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reamble and posta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eries of SYN (hex 16) charac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lock of 11111111 patterns ending in 1111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(lower overhead) than a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58141"/>
          <a:stretch/>
        </p:blipFill>
        <p:spPr>
          <a:xfrm>
            <a:off x="457200" y="3124080"/>
            <a:ext cx="82296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e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arrangement of stations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uter and terminals, local area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may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one data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ultaneous transmission and reception between two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two data paths (or echo cancel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1T10:38:40Z</dcterms:created>
  <dc:creator>Adrian J Pullin</dc:creator>
  <dc:description/>
  <dc:language>en-US</dc:language>
  <cp:lastModifiedBy>Adrian J Pullin</cp:lastModifiedBy>
  <dcterms:modified xsi:type="dcterms:W3CDTF">1999-10-13T14:41:32Z</dcterms:modified>
  <cp:revision>18</cp:revision>
  <dc:subject/>
  <dc:title>William Stallings Data and Computer Communications </dc:title>
</cp:coreProperties>
</file>